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DB4F1-B5CC-4432-A8EC-741C748C4F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07F26-88F8-45B5-A232-AD6DF38EEA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B05E985B-7452-4D84-93CF-33ED64D5696C}"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37133D0-2F39-40A4-ACE7-566B566AA08F}"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A7E5220-BD9C-4E4A-B07F-A715320563C1}"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7AA5394-BBFC-446A-8FBB-E3C65B658C32}" type="datetime">
              <a:rPr b="0" lang="en-US" sz="1200" spc="-1" strike="noStrike">
                <a:solidFill>
                  <a:srgbClr val="000000"/>
                </a:solidFill>
                <a:latin typeface="Times New Roman"/>
                <a:ea typeface="Arial"/>
              </a:rPr>
              <a:t>07/30/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0F9FFEB-E9D8-41D1-B557-0FE507A34316}" type="datetime3">
              <a:rPr b="0" lang="en-US" sz="1200" spc="-1" strike="noStrike">
                <a:solidFill>
                  <a:srgbClr val="000000"/>
                </a:solidFill>
                <a:latin typeface="Times New Roman"/>
                <a:ea typeface="Arial"/>
              </a:rPr>
              <a:t>July 30,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D19F30F-5546-4AB0-9CB7-857CDBB4D9C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08BB1B-2127-4E4E-93DA-BE878D20CB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9B24CC-3B3F-4779-9556-A9F3754EF0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0D736B-5A60-4D35-A7F3-031008BAB8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27C051-71C9-4737-8397-0A9796CE3D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1759F0-4642-46E1-8C30-9C51D86910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77FFFD-6741-4962-8173-1619E0C180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DAA294-1F04-48F5-AD7B-F8A0D6C9C3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716D1F-037F-4A77-9DB1-D27A034041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70D8C7-4894-4DA7-AA16-8BD5CA2FF7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55802B-1DF8-4DF6-8786-6D82DB07E9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3B6F74-2C5A-4292-A64D-08C3F9C90C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48B388-7545-4B79-8D69-07AE82A707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76E833-1D27-40B8-9CD5-ABFC3DA628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54108B-07AF-4A05-A331-C69186E328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147B42-DA97-4385-9A80-C1CD1243FF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1BAEB9-DA86-4133-B0C3-B42F41C7E3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45FCE1-7A99-465D-8CAE-2B01A82D2B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3729AF-04DC-47D4-9582-4A0AF6D538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FC0890-830C-43C6-A326-94BFCBC94A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C9163E-CD33-4742-9A89-D542567EA8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8CCFDC-E865-4B05-BB8E-5F8699D763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76864-D697-4A34-9E10-39F30DA83A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1BDFA-70BF-490A-9860-D3D142C27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31C66-9044-486F-81A5-2EFA9D25A2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66F37-DC50-4161-820F-9318D74C26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5372F2C0-523F-43FC-9A72-9C61C755FE2D}"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5FC94C46-B47A-44EF-8A66-8E3DB2628991}"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802E7A26-D28D-4C09-8E03-634A8AAF48E9}"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9250C-2522-4B1A-B363-DD423C95FF7E}"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8A4A9267-4DEA-4A1D-9753-3A5EBA3D15E3}"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19253836-5B0D-4D0D-BFA7-2138CBAA80B2}"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901E8D87-CD86-4A0B-B3DE-EC47685FC525}"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